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2DF5-6864-4FC9-BFAC-3C1A4F36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AA26-5C4F-4651-9390-B341BF75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6F3F-FF25-4995-A113-82ADB182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ED1-F8F3-4243-88CC-69FBDE05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D67C-3346-4FE7-BCC6-CD557DF6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2DBE-477B-47E1-AE66-928E5E4C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B85-5602-485E-9A14-6CDCDB2E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3BA-ED5B-4F62-9512-980EBB90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928-255F-4C4E-B105-0074587E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368-8173-4483-BD64-C9FBCA1F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114-CC64-4634-A479-71CDA5D5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2C6-883F-4EF8-AEE1-8508B297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A1DE-8DEA-47BE-A408-2FAF6E40A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8/New_France_3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en.wikipedia.org/wiki/File:Conference_Between_the_French_and_Indian_Leaders_Around_a_Ceremonial_Fire_by_Vernier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upload.wikimedia.org/wikipedia/commons/9/9a/1774_lynching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d/Congress_voting_independence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en.wikipedia.org/wiki/File:GreenMtBoys.jpg" TargetMode="External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f/Benjamin_West_005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7/Washington_Pennsylvania_Mapb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en.wikipedia.org/wiki/File:Washington_1772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upload.wikimedia.org/wikipedia/commons/9/9c/Benjamin_Franklin_-_Join_or_Die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en.wikipedia.org/wiki/File:Benjamin_Franklin_by_Joseph_Siffred_Duplessis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1/George_III_in_Coronation_Robes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File:Courtprivatelife-_George_III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George_Grenville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harlesTownshend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upload.wikimedia.org/wikipedia/commons/a/a6/Boston_1768.jpg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ile:New France 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341360"/>
            <a:ext cx="5789880" cy="5010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” marks the “endroit”?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220px-Conference_Between_the_French_and_Indian_Leaders_Around_a_Ceremonial_Fire_by_Verni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3905280"/>
            <a:ext cx="3564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Samuel Adams"/>
          <p:cNvPicPr/>
          <p:nvPr/>
        </p:nvPicPr>
        <p:blipFill>
          <a:blip r:embed="rId1"/>
          <a:stretch/>
        </p:blipFill>
        <p:spPr>
          <a:xfrm>
            <a:off x="395280" y="692280"/>
            <a:ext cx="2736720" cy="2395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paul_revere"/>
          <p:cNvPicPr/>
          <p:nvPr/>
        </p:nvPicPr>
        <p:blipFill>
          <a:blip r:embed="rId2"/>
          <a:stretch/>
        </p:blipFill>
        <p:spPr>
          <a:xfrm>
            <a:off x="3780000" y="549360"/>
            <a:ext cx="2224080" cy="278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benedict_arnold2"/>
          <p:cNvPicPr/>
          <p:nvPr/>
        </p:nvPicPr>
        <p:blipFill>
          <a:blip r:embed="rId3"/>
          <a:stretch/>
        </p:blipFill>
        <p:spPr>
          <a:xfrm>
            <a:off x="3780000" y="3500280"/>
            <a:ext cx="2374560" cy="3084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John-Adams"/>
          <p:cNvPicPr/>
          <p:nvPr/>
        </p:nvPicPr>
        <p:blipFill>
          <a:blip r:embed="rId4"/>
          <a:stretch/>
        </p:blipFill>
        <p:spPr>
          <a:xfrm>
            <a:off x="395280" y="3500280"/>
            <a:ext cx="2508120" cy="292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JohnHancockSmall"/>
          <p:cNvPicPr/>
          <p:nvPr/>
        </p:nvPicPr>
        <p:blipFill>
          <a:blip r:embed="rId5"/>
          <a:stretch/>
        </p:blipFill>
        <p:spPr>
          <a:xfrm>
            <a:off x="6588000" y="620640"/>
            <a:ext cx="2143080" cy="2714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patrick-henry21"/>
          <p:cNvPicPr/>
          <p:nvPr/>
        </p:nvPicPr>
        <p:blipFill>
          <a:blip r:embed="rId6"/>
          <a:stretch/>
        </p:blipFill>
        <p:spPr>
          <a:xfrm>
            <a:off x="6659640" y="3860640"/>
            <a:ext cx="22003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sons_of_liberty_poster-p228640904795152089trma_400"/>
          <p:cNvPicPr/>
          <p:nvPr/>
        </p:nvPicPr>
        <p:blipFill>
          <a:blip r:embed="rId1"/>
          <a:stretch/>
        </p:blipFill>
        <p:spPr>
          <a:xfrm>
            <a:off x="0" y="907920"/>
            <a:ext cx="5256360" cy="525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File:1774 lynching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94280" y="476280"/>
            <a:ext cx="4149720" cy="5781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611280" y="90792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ag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PW4010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A Broadside posted by The sons of Liberty in 1770, One of the first anonymous postings in America, protesting the death of 5 young patriots - protestors"/>
          <p:cNvPicPr/>
          <p:nvPr/>
        </p:nvPicPr>
        <p:blipFill>
          <a:blip r:embed="rId1"/>
          <a:stretch/>
        </p:blipFill>
        <p:spPr>
          <a:xfrm>
            <a:off x="0" y="1628640"/>
            <a:ext cx="4116240" cy="4680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ucy Boys, Negroes and Mulatto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boston_massacre2"/>
          <p:cNvPicPr/>
          <p:nvPr/>
        </p:nvPicPr>
        <p:blipFill>
          <a:blip r:embed="rId2"/>
          <a:stretch/>
        </p:blipFill>
        <p:spPr>
          <a:xfrm>
            <a:off x="4140360" y="1989000"/>
            <a:ext cx="500364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tea_party"/>
          <p:cNvPicPr/>
          <p:nvPr/>
        </p:nvPicPr>
        <p:blipFill>
          <a:blip r:embed="rId1"/>
          <a:stretch/>
        </p:blipFill>
        <p:spPr>
          <a:xfrm>
            <a:off x="0" y="2701800"/>
            <a:ext cx="7308720" cy="4156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boston_tea_party"/>
          <p:cNvPicPr/>
          <p:nvPr/>
        </p:nvPicPr>
        <p:blipFill>
          <a:blip r:embed="rId2"/>
          <a:stretch/>
        </p:blipFill>
        <p:spPr>
          <a:xfrm>
            <a:off x="0" y="0"/>
            <a:ext cx="3419640" cy="2714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RapeBoston"/>
          <p:cNvPicPr/>
          <p:nvPr/>
        </p:nvPicPr>
        <p:blipFill>
          <a:blip r:embed="rId3"/>
          <a:stretch/>
        </p:blipFill>
        <p:spPr>
          <a:xfrm>
            <a:off x="4859280" y="0"/>
            <a:ext cx="4284720" cy="31273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7667640" y="3716280"/>
            <a:ext cx="11523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be coffee would be easier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File:Congress voting independenc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4640"/>
            <a:ext cx="846144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Empire to Independence – American Revolution 1775-178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fifeanddrum"/>
          <p:cNvPicPr/>
          <p:nvPr/>
        </p:nvPicPr>
        <p:blipFill>
          <a:blip r:embed="rId1"/>
          <a:stretch/>
        </p:blipFill>
        <p:spPr>
          <a:xfrm>
            <a:off x="303120" y="1484280"/>
            <a:ext cx="3917880" cy="5184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900000" y="1628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rit of ‘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148360" y="220500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The die is now cast; the colonies must either submit or triumph.... we must not retreat.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148360" y="414972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I know not what course others may take; but as for me, give me liberty or give me death.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hot Heard ‘Round the Worl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822600" y="1267560"/>
            <a:ext cx="77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Don't fire unless fired upon. But if they want a war let it begin here.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Battle+of+Lexington+Concord"/>
          <p:cNvPicPr/>
          <p:nvPr/>
        </p:nvPicPr>
        <p:blipFill>
          <a:blip r:embed="rId1"/>
          <a:stretch/>
        </p:blipFill>
        <p:spPr>
          <a:xfrm>
            <a:off x="0" y="1557360"/>
            <a:ext cx="5113440" cy="3511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Standt"/>
          <p:cNvPicPr/>
          <p:nvPr/>
        </p:nvPicPr>
        <p:blipFill>
          <a:blip r:embed="rId2"/>
          <a:stretch/>
        </p:blipFill>
        <p:spPr>
          <a:xfrm>
            <a:off x="5219640" y="1557360"/>
            <a:ext cx="3924360" cy="2805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minutemen"/>
          <p:cNvPicPr/>
          <p:nvPr/>
        </p:nvPicPr>
        <p:blipFill>
          <a:blip r:embed="rId3"/>
          <a:stretch/>
        </p:blipFill>
        <p:spPr>
          <a:xfrm>
            <a:off x="7277040" y="4149720"/>
            <a:ext cx="1866960" cy="2708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paulrevere"/>
          <p:cNvPicPr/>
          <p:nvPr/>
        </p:nvPicPr>
        <p:blipFill>
          <a:blip r:embed="rId4"/>
          <a:stretch/>
        </p:blipFill>
        <p:spPr>
          <a:xfrm>
            <a:off x="0" y="4508640"/>
            <a:ext cx="1760400" cy="2349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6"/>
          <p:cNvSpPr/>
          <p:nvPr/>
        </p:nvSpPr>
        <p:spPr>
          <a:xfrm>
            <a:off x="1763640" y="5516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ul Revere’s Rid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5796000" y="551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nu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Rev%20Ethan%20Allen"/>
          <p:cNvPicPr/>
          <p:nvPr/>
        </p:nvPicPr>
        <p:blipFill>
          <a:blip r:embed="rId1"/>
          <a:stretch/>
        </p:blipFill>
        <p:spPr>
          <a:xfrm>
            <a:off x="0" y="0"/>
            <a:ext cx="2622600" cy="393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GreenMtBoy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0"/>
            <a:ext cx="2666880" cy="2438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The star-shaped fort is visible in the center of the photograph, with its inner buildings roofed in red. The fort is surrounded by forest, and a body of water (a portion of Lake Champlain) is visible behind the fort."/>
          <p:cNvPicPr/>
          <p:nvPr/>
        </p:nvPicPr>
        <p:blipFill>
          <a:blip r:embed="rId4"/>
          <a:stretch/>
        </p:blipFill>
        <p:spPr>
          <a:xfrm>
            <a:off x="2700360" y="2492280"/>
            <a:ext cx="3960720" cy="2862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A head and shoulders profile engraving of Arnold. He is facing left, wearing a uniform with two stars on the shoulder epaulet. His hair is tied back."/>
          <p:cNvPicPr/>
          <p:nvPr/>
        </p:nvPicPr>
        <p:blipFill>
          <a:blip r:embed="rId5"/>
          <a:stretch/>
        </p:blipFill>
        <p:spPr>
          <a:xfrm>
            <a:off x="6804000" y="3284640"/>
            <a:ext cx="23828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continentalcongress"/>
          <p:cNvPicPr/>
          <p:nvPr/>
        </p:nvPicPr>
        <p:blipFill>
          <a:blip r:embed="rId1"/>
          <a:stretch/>
        </p:blipFill>
        <p:spPr>
          <a:xfrm>
            <a:off x="0" y="0"/>
            <a:ext cx="6732720" cy="441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george-washington-1782-painting"/>
          <p:cNvPicPr/>
          <p:nvPr/>
        </p:nvPicPr>
        <p:blipFill>
          <a:blip r:embed="rId2"/>
          <a:stretch/>
        </p:blipFill>
        <p:spPr>
          <a:xfrm>
            <a:off x="5732640" y="2924280"/>
            <a:ext cx="34113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/Sound Familiar – Linking Histories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rench-Indian War (1754-1763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Annus Mirabilis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File:Benjamin West 0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495440"/>
            <a:ext cx="76201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Battle_of_bunker_hill_by_Percy_Mor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explorepahistory-a0a9x1-a_349"/>
          <p:cNvPicPr/>
          <p:nvPr/>
        </p:nvPicPr>
        <p:blipFill>
          <a:blip r:embed="rId2"/>
          <a:stretch/>
        </p:blipFill>
        <p:spPr>
          <a:xfrm>
            <a:off x="7404120" y="4581360"/>
            <a:ext cx="1739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get_image?provider_id=207&amp;size=550x550_mb&amp;ptp_photo_id=146247"/>
          <p:cNvPicPr/>
          <p:nvPr/>
        </p:nvPicPr>
        <p:blipFill>
          <a:blip r:embed="rId1"/>
          <a:stretch/>
        </p:blipFill>
        <p:spPr>
          <a:xfrm>
            <a:off x="539640" y="1125360"/>
            <a:ext cx="8280360" cy="5496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ure at Quebec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File:Fort-Sullivan.jpg"/>
          <p:cNvPicPr/>
          <p:nvPr/>
        </p:nvPicPr>
        <p:blipFill>
          <a:blip r:embed="rId1"/>
          <a:stretch/>
        </p:blipFill>
        <p:spPr>
          <a:xfrm>
            <a:off x="0" y="0"/>
            <a:ext cx="5364000" cy="410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The Marquess Cornwallis"/>
          <p:cNvPicPr/>
          <p:nvPr/>
        </p:nvPicPr>
        <p:blipFill>
          <a:blip r:embed="rId2"/>
          <a:stretch/>
        </p:blipFill>
        <p:spPr>
          <a:xfrm>
            <a:off x="5810400" y="333360"/>
            <a:ext cx="2970000" cy="374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state-flag-south-carolina"/>
          <p:cNvPicPr/>
          <p:nvPr/>
        </p:nvPicPr>
        <p:blipFill>
          <a:blip r:embed="rId3"/>
          <a:stretch/>
        </p:blipFill>
        <p:spPr>
          <a:xfrm>
            <a:off x="2268360" y="3606840"/>
            <a:ext cx="48880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lood of the slain, the weeping voice of nature cries, TIS TIME TO PAR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220px-Thomas_Paine_by_Matthew_Pratt%2C_1785-95"/>
          <p:cNvPicPr/>
          <p:nvPr/>
        </p:nvPicPr>
        <p:blipFill>
          <a:blip r:embed="rId1"/>
          <a:stretch/>
        </p:blipFill>
        <p:spPr>
          <a:xfrm>
            <a:off x="395280" y="1916280"/>
            <a:ext cx="3470400" cy="446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PaineCommonSense"/>
          <p:cNvPicPr/>
          <p:nvPr/>
        </p:nvPicPr>
        <p:blipFill>
          <a:blip r:embed="rId2"/>
          <a:stretch/>
        </p:blipFill>
        <p:spPr>
          <a:xfrm>
            <a:off x="5292720" y="1773360"/>
            <a:ext cx="305136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fe, Liberty and the pursuit of Happiness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signing-declaration-of-independence"/>
          <p:cNvPicPr/>
          <p:nvPr/>
        </p:nvPicPr>
        <p:blipFill>
          <a:blip r:embed="rId1"/>
          <a:stretch/>
        </p:blipFill>
        <p:spPr>
          <a:xfrm>
            <a:off x="0" y="1628640"/>
            <a:ext cx="5334120" cy="3838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File:Us declaration independence.jpg"/>
          <p:cNvPicPr/>
          <p:nvPr/>
        </p:nvPicPr>
        <p:blipFill>
          <a:blip r:embed="rId2"/>
          <a:stretch/>
        </p:blipFill>
        <p:spPr>
          <a:xfrm>
            <a:off x="5319720" y="1052640"/>
            <a:ext cx="3824280" cy="4537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Committee_of_Five"/>
          <p:cNvPicPr/>
          <p:nvPr/>
        </p:nvPicPr>
        <p:blipFill>
          <a:blip r:embed="rId3"/>
          <a:stretch/>
        </p:blipFill>
        <p:spPr>
          <a:xfrm>
            <a:off x="1116000" y="5457960"/>
            <a:ext cx="7000920" cy="1400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324000" y="105264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ust all hang together, or assuredly we shall all hang separate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ere they? Oppressions?”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67 years later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116000" y="2492280"/>
            <a:ext cx="698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man, what we meant in going for those red-coats was this: we always governed ourselves, and we always meant to. They didn’t think we shoul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i Pre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File:Washington Pennsylvania Map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3192480" cy="403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220px-Washington_17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4221000"/>
            <a:ext cx="2241720" cy="2637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s of Leadership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File:Benjamin Franklin - Join or Di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32360" y="1125360"/>
            <a:ext cx="5111640" cy="368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225px-Benjamin_Franklin_by_Joseph_Siffred_Duplessi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80000" y="4210200"/>
            <a:ext cx="21430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blic Enemy #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File:George III in Coronation Rob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557360"/>
            <a:ext cx="3457800" cy="5022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alf-length monochrome portrait of an old seated man with a long white beard, wearing a soft cap and dressing gown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2920" y="1557360"/>
            <a:ext cx="3243240" cy="5040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4211640" y="2852640"/>
            <a:ext cx="165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potic King – an absolute tyra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476360" y="6597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61-18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all not pass!!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image116"/>
          <p:cNvPicPr/>
          <p:nvPr/>
        </p:nvPicPr>
        <p:blipFill>
          <a:blip r:embed="rId1"/>
          <a:stretch/>
        </p:blipFill>
        <p:spPr>
          <a:xfrm>
            <a:off x="324000" y="1125360"/>
            <a:ext cx="3778200" cy="532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2010-04-01-Boone_Cumberland"/>
          <p:cNvPicPr/>
          <p:nvPr/>
        </p:nvPicPr>
        <p:blipFill>
          <a:blip r:embed="rId2"/>
          <a:stretch/>
        </p:blipFill>
        <p:spPr>
          <a:xfrm>
            <a:off x="4067280" y="1849320"/>
            <a:ext cx="507672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pping the Scale Towards Un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ared patrio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p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The distinctions between Virginians, Pennsylvanians, New Yorkers, New Englanders are no more. I AM NOT A VIRGINIAN, BUT AN AMERICAN!"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rick Hen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yal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st Empire on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ialist attitudes – arrog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 – defense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won the war for the colon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world England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Taxation without Representation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225px-George_Gren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341360"/>
            <a:ext cx="4017960" cy="551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pennsylvania-journal-and-weekly-advertiser-protesting-the-stamp-act-c-1765"/>
          <p:cNvPicPr/>
          <p:nvPr/>
        </p:nvPicPr>
        <p:blipFill>
          <a:blip r:embed="rId3"/>
          <a:stretch/>
        </p:blipFill>
        <p:spPr>
          <a:xfrm>
            <a:off x="4067280" y="1413000"/>
            <a:ext cx="5076720" cy="4281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6a00d834520a2e69e2011168850ca1970c-800wi"/>
          <p:cNvPicPr/>
          <p:nvPr/>
        </p:nvPicPr>
        <p:blipFill>
          <a:blip r:embed="rId4"/>
          <a:stretch/>
        </p:blipFill>
        <p:spPr>
          <a:xfrm>
            <a:off x="5508720" y="3789360"/>
            <a:ext cx="20970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NYLibertyPole"/>
          <p:cNvPicPr/>
          <p:nvPr/>
        </p:nvPicPr>
        <p:blipFill>
          <a:blip r:embed="rId1"/>
          <a:stretch/>
        </p:blipFill>
        <p:spPr>
          <a:xfrm>
            <a:off x="0" y="0"/>
            <a:ext cx="6192720" cy="4114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liberty_tree_04_bennett1"/>
          <p:cNvPicPr/>
          <p:nvPr/>
        </p:nvPicPr>
        <p:blipFill>
          <a:blip r:embed="rId2"/>
          <a:stretch/>
        </p:blipFill>
        <p:spPr>
          <a:xfrm>
            <a:off x="4067280" y="3049560"/>
            <a:ext cx="5076720" cy="38084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755640" y="4581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 me Liberty or give me death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804000" y="112536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s of Lib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200px-CharlesTownshen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079880" cy="489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File:Boston 176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8000" y="2979720"/>
            <a:ext cx="6048720" cy="3878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image771"/>
          <p:cNvPicPr/>
          <p:nvPr/>
        </p:nvPicPr>
        <p:blipFill>
          <a:blip r:embed="rId5"/>
          <a:stretch/>
        </p:blipFill>
        <p:spPr>
          <a:xfrm>
            <a:off x="4716360" y="0"/>
            <a:ext cx="40579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1:52:42Z</dcterms:created>
  <dc:creator>User</dc:creator>
  <dc:description/>
  <dc:language>en-US</dc:language>
  <cp:lastModifiedBy>ladmin</cp:lastModifiedBy>
  <dcterms:modified xsi:type="dcterms:W3CDTF">2010-10-12T12:22:25Z</dcterms:modified>
  <cp:revision>5</cp:revision>
  <dc:subject/>
  <dc:title>The American Revolution: a war for independence(1775-1783)</dc:title>
</cp:coreProperties>
</file>